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9DD-CB4B-4EC7-8307-223FB0E0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065-E2EE-4D9B-9030-CCDFAE59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655-EA34-4024-878F-DB0C5532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B0B-F4CE-4084-A652-D77759FE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D4B-7F97-43CE-AEAF-A1206A7E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775-6837-42F3-B8B0-64CA7AE5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18A-785B-47F6-92F3-9FF4ADE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3F1-A7A2-4C56-8647-D6E3462D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A61-1BA7-49CA-8925-CEC117AC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9B5-129F-4A72-A6AA-9019F65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E02-E86A-4519-B418-0A228AE1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9D5-03B4-43D4-994D-C9DFDDD4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D07D-9564-4625-8D22-18DEEDC40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slide" Target=""/><Relationship Id="rId6" Type="http://schemas.openxmlformats.org/officeDocument/2006/relationships/slide" Target="slide10.xml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slide16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8.xm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slide11.xml"/><Relationship Id="rId18" Type="http://schemas.openxmlformats.org/officeDocument/2006/relationships/slide" Target=""/><Relationship Id="rId19" Type="http://schemas.openxmlformats.org/officeDocument/2006/relationships/slide" Target="slide12.xml"/><Relationship Id="rId20" Type="http://schemas.openxmlformats.org/officeDocument/2006/relationships/slide" Target=""/><Relationship Id="rId21" Type="http://schemas.openxmlformats.org/officeDocument/2006/relationships/slide" Target="slide13.xml"/><Relationship Id="rId22" Type="http://schemas.openxmlformats.org/officeDocument/2006/relationships/slide" Target=""/><Relationship Id="rId23" Type="http://schemas.openxmlformats.org/officeDocument/2006/relationships/slide" Target="slide9.xml"/><Relationship Id="rId24" Type="http://schemas.openxmlformats.org/officeDocument/2006/relationships/slide" Target=""/><Relationship Id="rId25" Type="http://schemas.openxmlformats.org/officeDocument/2006/relationships/slide" Target="slide17.xml"/><Relationship Id="rId26" Type="http://schemas.openxmlformats.org/officeDocument/2006/relationships/slide" Target=""/><Relationship Id="rId27" Type="http://schemas.openxmlformats.org/officeDocument/2006/relationships/slide" Target="slide7.xml"/><Relationship Id="rId28" Type="http://schemas.openxmlformats.org/officeDocument/2006/relationships/slide" Target=""/><Relationship Id="rId29" Type="http://schemas.openxmlformats.org/officeDocument/2006/relationships/slide" Target="slide6.xml"/><Relationship Id="rId30" Type="http://schemas.openxmlformats.org/officeDocument/2006/relationships/slide" Target=""/><Relationship Id="rId31" Type="http://schemas.openxmlformats.org/officeDocument/2006/relationships/slide" Target="slide19.xml"/><Relationship Id="rId32" Type="http://schemas.openxmlformats.org/officeDocument/2006/relationships/slide" Target=""/><Relationship Id="rId33" Type="http://schemas.openxmlformats.org/officeDocument/2006/relationships/slide" Target="slide20.xml"/><Relationship Id="rId34" Type="http://schemas.openxmlformats.org/officeDocument/2006/relationships/slide" Target=""/><Relationship Id="rId35" Type="http://schemas.openxmlformats.org/officeDocument/2006/relationships/slide" Target="slide21.xml"/><Relationship Id="rId36" Type="http://schemas.openxmlformats.org/officeDocument/2006/relationships/slide" Target=""/><Relationship Id="rId37" Type="http://schemas.openxmlformats.org/officeDocument/2006/relationships/slide" Target="slide22.xml"/><Relationship Id="rId38" Type="http://schemas.openxmlformats.org/officeDocument/2006/relationships/slide" Target="slide3.xml"/><Relationship Id="rId39" Type="http://schemas.openxmlformats.org/officeDocument/2006/relationships/slide" Target=""/><Relationship Id="rId40" Type="http://schemas.openxmlformats.org/officeDocument/2006/relationships/slide" Target="slide4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901880" y="1901880"/>
            <a:ext cx="5340240" cy="159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jeopardy-pi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438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Mrs. Gol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eopardy - Full Version 1985.mp3" descr=""/>
          <p:cNvPicPr/>
          <p:nvPr/>
        </p:nvPicPr>
        <p:blipFill>
          <a:blip r:embed="rId3"/>
          <a:stretch/>
        </p:blipFill>
        <p:spPr>
          <a:xfrm>
            <a:off x="8839080" y="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9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49995"/>
              <a:gd name="adj2" fmla="val 233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discussed laissez-f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cs and provided a b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capitalism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ealth of Nations, Adam Sm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796"/>
              <a:gd name="adj2" fmla="val 237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gram proposed contro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porations, consumer protection,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the enviro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quare Deal (Teddy Roosevel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914400" y="990720"/>
            <a:ext cx="7162920" cy="4038480"/>
          </a:xfrm>
          <a:prstGeom prst="wedgeRectCallout">
            <a:avLst>
              <a:gd name="adj1" fmla="val -49995"/>
              <a:gd name="adj2" fmla="val 244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man is known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llar Diplomac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Ta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49995"/>
              <a:gd name="adj2" fmla="val 247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was designed to bl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sm in the Middle Eas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Eisenhower Doctr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189"/>
              <a:gd name="adj2" fmla="val 240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howed grim pictures of N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rk City tenements,  l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ing reform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ow the Other Half Lives, Jacob Ri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89"/>
              <a:gd name="adj2" fmla="val 2268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gram paid spe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tion to education and civ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ghts, PROPOSED Medicar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vil Rights Act and ma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i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w Frontier (JFK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95"/>
              <a:gd name="adj2" fmla="val 2688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man is primarily known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endleton Ac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Chester Arth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29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gave Hayes the presi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emoved troops from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, ending Reconstru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mpromise of 187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9995"/>
              <a:gd name="adj2" fmla="val 282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argued that the rich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ligated to spend some of the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lth to help the poo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ospel of Wealth, Andrew Carneg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49796"/>
              <a:gd name="adj2" fmla="val 2234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gram paid special att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economic security, ra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nimum wage, increa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ployment and expa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al secur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air Deal (Truman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>
            <a:hlinkClick r:id="rId1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3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0"/>
            <a:ext cx="1905120" cy="5806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idential Progra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362320" y="36360"/>
            <a:ext cx="18288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id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15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8">
            <a:hlinkClick r:id="rId16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0">
            <a:hlinkClick r:id="rId18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1">
            <a:hlinkClick r:id="rId20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2">
            <a:hlinkClick r:id="rId22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3">
            <a:hlinkClick r:id="rId2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5">
            <a:hlinkClick r:id="rId26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6">
            <a:hlinkClick r:id="rId28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7">
            <a:hlinkClick r:id="rId30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8">
            <a:hlinkClick r:id="rId32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9">
            <a:hlinkClick r:id="rId3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>
            <a:hlinkClick r:id="rId3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6"/>
          <p:cNvSpPr/>
          <p:nvPr/>
        </p:nvSpPr>
        <p:spPr>
          <a:xfrm>
            <a:off x="6094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4648320" y="36360"/>
            <a:ext cx="2057400" cy="70380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trines &amp; Comprom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0" y="36360"/>
            <a:ext cx="20574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8">
            <a:hlinkClick r:id="rId39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89"/>
              <a:gd name="adj2" fmla="val 2199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man is known for 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issez-fare presidency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llogg-Briand Pa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Coolid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95"/>
              <a:gd name="adj2" fmla="val 20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redefined US contai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icy &amp; stated that US w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ntain collective secur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economic and diplomatic me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ixon Doctr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95"/>
              <a:gd name="adj2" fmla="val 2094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detailed the government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atment of Native America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entury of Dishonor, Helen Hunt Jac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990720" y="914400"/>
            <a:ext cx="7543800" cy="4038480"/>
          </a:xfrm>
          <a:prstGeom prst="wedgeRectCallout">
            <a:avLst>
              <a:gd name="adj1" fmla="val -18671"/>
              <a:gd name="adj2" fmla="val 4994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gram provided relief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unemployed, recovery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ression, and reform of econom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ew Deal (FDR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995"/>
              <a:gd name="adj2" fmla="val 202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ident is most well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ifest Destiny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xican-American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Pol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796"/>
              <a:gd name="adj2" fmla="val 22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hibited slavery nort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36’30 paralle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issouri Comprom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796"/>
              <a:gd name="adj2" fmla="val 2059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exposed the evils of mea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cking plan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Jungle, Upton Sincl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95"/>
              <a:gd name="adj2" fmla="val 23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gram paid spe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tion to poverty, civil right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lth care and educa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eat Society (LBJ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254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man is known for his poli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Reconstruction; fir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sident impeach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ndrew John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95"/>
              <a:gd name="adj2" fmla="val 19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admitted California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nion, enacted a stro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gitive Slave law, e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lave trade in DC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ablished pop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vereignty in New Mexico &amp; Ut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mpromise of 185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22:42:49Z</dcterms:created>
  <dc:creator>Jerry Myers</dc:creator>
  <dc:description>Created by Jerry Myers is 1998 for a class.</dc:description>
  <dc:language>en-US</dc:language>
  <cp:lastModifiedBy>emily.johnson</cp:lastModifiedBy>
  <cp:lastPrinted>2001-01-31T16:21:13Z</cp:lastPrinted>
  <dcterms:modified xsi:type="dcterms:W3CDTF">2013-05-14T13:00:54Z</dcterms:modified>
  <cp:revision>104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